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F84C-E339-4D08-A966-7C9552098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A64B-8269-46CE-9BEA-4F45C2B0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7FE9-7C2F-4690-B6DD-5292830F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D943-87BF-475F-973A-BE0279BA9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8169-789D-4586-9BD7-6DEB77A2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6867-F494-4F9F-AE2A-4A736941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4071-F101-4460-803D-F3131241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CA03-ADE2-4184-9B3E-3ED02D49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B825-6622-494B-AEBE-57C7CB2A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641D-7737-4009-AD71-27972DA5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62E1-A441-4E55-90E6-2FDD7776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18BF-5892-4BBC-A97A-02956FE5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3522-5DC1-41B8-80EC-0063A423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0E60-E1B3-4CAC-B6D6-BA5F9B53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364B-76DA-4331-815A-0E7A4F17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925F-FE22-4FCC-A03C-99B53746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B8A4-38E4-4842-A3BC-C311C7F85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616D-B9E2-4531-BC11-D2D4E150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787A-2F1B-47EF-A90B-F8218FA9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0E81-1C11-49B4-BF1F-5310FDFB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7ACA-E171-4F45-A8E7-3BDF58BB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FDB5-A34D-4F38-AA9E-5BDE8C88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F2E4-CF12-4415-993E-EA8A8EF8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519A-1135-4031-9EB3-383068A2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F8DC-F93C-41D0-8625-0EAE9ED2C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867F-EB10-4DCE-B8EF-62A2DA53A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icro.magnet.fsu.edu/primer/java/scienceopticsu/powersof10/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Animal Phyla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ymmetry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be differentiating between several phyla based upon symmetry.  There are three kinds of body organization symmetry you must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, what is symme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ymmetry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ll be differentiating between several phyla based upon symmetry.  There are three kinds of body organization symmetry you must k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, what is symmetry?  Generally, a symmetric shape is a shape that still looks the same if you fold or rotate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down each definition, then, mold your play-doh into an organism that models that kind of symme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with me that you’re correct, then draw what you’ve mae next to the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ymmetry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symmetric:  Irregular.  Is not symmetr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 asymmetric orga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your work with me, then draw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ymmetry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lateral Symmetry:  The organism can be divided into mirror-image hal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ymmetry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dial Symmetry:  Cutting/folding down several planes would produce identical pieces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ly symmetric organisms don’t have a lateral ax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ymmetry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-life examples of the three kinds of symme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ateral sym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l sym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ote: No organism is 100% perfectly symmetric, there are always “imperfections.”  These describe the general body pla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keleton Type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 phyla are also divided by the type of skeleton invol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definitions.  Then, together, see if you can think of an animal that uses this kind of skeleton.  Mold your clay into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keleton Type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ydrostatic Skeleton:  The organism does not have a “true” skeleton, it uses a fluid-filled cavity and fluid environment to maintain its sh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keleton Type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oskeleton:  The animal’s body is supported and its shape maintained by 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ternal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skele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keleton Type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doskeleton:  The animal’s body is supported and its shape maintained by 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ernal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skele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Homework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evels of Organizatio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basic level of organization is a cell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cell is the smallest self-contained unit that fulfills all the characteristics of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s are made of more than one cell.  However, they vary in the complexity of how those cells work 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evels of Organizatio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ssu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is a group of cells that work together to carry out a specific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rga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is a group of tissues that work together to carry out a general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rgan syste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is a group of organs that work together to carry out a major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rganisms may have organ systems, others may be simpler, some may not even have tiss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Arial"/>
                <a:hlinkClick r:id="rId2"/>
              </a:rPr>
              <a:t>http://micro.magnet.fsu.edu/primer/java/scienceopticsu/powersof10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egmentatio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, you’ll need to know what segmentation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gmentation is the division of a body plan into a series of semi-repetitive seg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mold your play-doh into a body plan showing segm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Major Phyla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use laptops to research the 9 major animal phyla:  Porifera, Cnidaria, Platyhelminthes, Nematoda, Annelida, Mollusca, Arthropoda, Echinodermata, Chor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’re going to fill out a table with many differences.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 will not have to memorize this whole tabl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But you will need to be able to distinguish between phyla based upon the categories we learned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’ll also illustrate an example organism for each group, and will create a phylogenetic tree for the animal kingdom.  Pay attention to the evolution of these phyla and their features.  Lastly, you will create a dichotomous key for the phy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Objective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remainder of the week, the objective i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guish between different types of body location/axis, skeleton types, symmetry, and levels of organiz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 what segmentation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guish between 9 major phyla in the animal king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able, please take a lump of play-doh.  Also keep your notebook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your partner, pick an animal that you’re both familiar with, and mold the play-doh into that ani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, in your notebook, illustrate the ani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Body Location/Axi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alking about the organization of animal bodies, we have words to describe the different “ends” of the body.  You need to know these f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down the definitions, and label the illustration with the location or ax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Body Location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terior-Posterior 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terior: The end of the body in the direction of the 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sterior: The end of the body opposite of the anter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Body Location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orsal-Ventral 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orsal:  The side of the body housing the sp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ral: The side of the body opposite the dors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Body Location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teral 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teral: The left or right side of the body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 right side is termed right-lateral, the left side is termed left-lateral.  These are the sides for the organism, not the observer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Body Location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ant you to quiz every other table on these locations/axes, by doing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 another pair, and indicate to them a location on your play-doh animal (or you may use a location on a human if you wa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pair must correctly tell you whether that location is closer to the anterior vs posterior, dorsal vs ventral, and left vs right lateral side of the ani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y get it wrong, move on to another pair but come back to them later with a new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21:16:14Z</dcterms:created>
  <dc:creator>Rebecca Stang</dc:creator>
  <dc:description/>
  <dc:language>en-US</dc:language>
  <cp:lastModifiedBy>Rebecca Stang</cp:lastModifiedBy>
  <dcterms:modified xsi:type="dcterms:W3CDTF">2009-03-15T21:51:26Z</dcterms:modified>
  <cp:revision>11</cp:revision>
  <dc:subject/>
  <dc:title>Animal Phyla</dc:title>
</cp:coreProperties>
</file>